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79EE6-88D0-40ED-A7C9-D04C17297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625AE-0BCC-4E27-B447-256A4F26C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EF0C1-4DB0-4843-9222-BB91DB2F8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BD525-DE49-4B1C-B21A-E54714098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65B10-CBF2-420D-981F-B3543737F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064CC-A64D-4422-90ED-D41B2B9F1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14B0C-F5CF-4234-805A-9915CCBC0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BAFD-867F-4575-AFE3-9A4953E70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DD26-1214-47DF-8A72-8E06347CC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986D-06F3-442C-AB1D-93DD1ED75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4BAE-8197-40BB-821B-43A6716DF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A1E3-51CC-4E12-BF71-3A35BDD25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3608-A818-4052-884B-1957BF1E3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AF62-5C95-4F70-A53E-1935DD714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10D6-5D96-4F2B-A41F-8E69150B0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E4E3-50D8-4E49-AFAF-9B680797A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E8C2-3B25-410A-A8B6-2AF6C3C7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5C8D-E8F6-48A1-AFB4-F40FB5B6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BD87-7A82-4129-9B2F-748B6D40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nthesis Workshop May 28t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44B9F-B22C-440D-9587-0FD62242B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npo00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9051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Successful small ruminant feeding strategies: Lessons from elsewhere and their application in Ethiopia</a:t>
            </a:r>
            <a:br>
              <a:rPr sz="2800"/>
            </a:b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Bill Thor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0" y="60768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Ethiopian Livestock Feed Project Synthesis workshop, Addis Ababa, 28-29 May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" descr=""/>
          <p:cNvPicPr/>
          <p:nvPr/>
        </p:nvPicPr>
        <p:blipFill>
          <a:blip r:embed="rId2"/>
          <a:stretch/>
        </p:blipFill>
        <p:spPr>
          <a:xfrm>
            <a:off x="3944880" y="304920"/>
            <a:ext cx="1160640" cy="1164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D:\My Pictures\logos\eiar_logo.jpg"/>
          <p:cNvPicPr/>
          <p:nvPr/>
        </p:nvPicPr>
        <p:blipFill>
          <a:blip r:embed="rId3"/>
          <a:stretch/>
        </p:blipFill>
        <p:spPr>
          <a:xfrm>
            <a:off x="7620120" y="155520"/>
            <a:ext cx="920520" cy="1463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D:\My Pictures\logos\ARARI_logo.jpg"/>
          <p:cNvPicPr/>
          <p:nvPr/>
        </p:nvPicPr>
        <p:blipFill>
          <a:blip r:embed="rId4"/>
          <a:stretch/>
        </p:blipFill>
        <p:spPr>
          <a:xfrm>
            <a:off x="609480" y="279360"/>
            <a:ext cx="121932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nthesis Workshop May 28t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D9B74-B791-449B-BDC1-AF193CCC0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dentifying 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successful SR feeding strateg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ree-prong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pproa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ur knowledge of current &amp; past R&amp;D activities and the related literature 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lectronic search of the SR literature 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ked key informants in LAC, Africa, Asia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adv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info’ about undocumented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links to grey literat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nthesis Workshop May 28t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873E4-3BE7-4160-AD71-4783C1FA91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dentifying 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successful SR feeding strateg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421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cent FAO electronic confere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uccesses and failures with animal nutrition  practices and technologies in developing countries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y theoretical options but limited uptak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lure of research to involve farmer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lure to demonstrate convincing benefit : cost ratio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akness of extension services  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nthesis Workshop May 28t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CE4FE-9C68-45D3-81D4-6CBFF750CB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dentifying 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successful SR feeding strateg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ed for farmer participatory, action-research based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s from CIAT’s SE Asia prog., Horne &amp;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ür; often labour-saving important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elihood systems including gender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SR value chains: input and output markets - increasing demand for meat driving adop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nthesis Workshop May 28t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FAA85-8A33-4910-B801-22E500D0E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56908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dentifying 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successful SR feeding strategies: entry points in the production cycl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thiopia’s SR meat prod. systems, what entry points responsive to better feed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le cycle thro’ better grazing management and better crop residu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ttening/finishing pha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st-weaning grow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we/doe fertil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portunities to exploit beneficial nutrition x health interac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nthesis Workshop May 28t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2342C-97FC-46E8-86A4-2B2387B22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dentifying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successful SR feeding strategies: what technologies and approache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3628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mart feeding: targeting to improve efficiency of utilization of available f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unity-based management of CP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od-feed crop improvement and cropping systems (e.g. legume intercropping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lanted forages for stall-feeding: grasses, herbaceous legumes, MP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7T16:42:54Z</dcterms:created>
  <dc:creator>thorpe</dc:creator>
  <dc:description/>
  <dc:language>en-US</dc:language>
  <cp:lastModifiedBy>PBallantyne</cp:lastModifiedBy>
  <dcterms:modified xsi:type="dcterms:W3CDTF">2012-05-29T03:49:15Z</dcterms:modified>
  <cp:revision>11</cp:revision>
  <dc:subject/>
  <dc:title>Ethiopia Feed Resources Project</dc:title>
</cp:coreProperties>
</file>